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92920" y="35244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84560" y="35244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833600" y="35244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2920" y="73332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57800" y="73332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0560" y="127152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2720" y="127152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7240" y="127152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69440" y="127152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6400" y="127152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5640" y="127152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76320" y="127152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9200" y="127152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360" y="21272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5000" y="2127240"/>
            <a:ext cx="72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6280" y="212724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4920" y="212724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56960" y="212724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99320" y="127152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42320" y="212724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7720" y="2584440"/>
            <a:ext cx="84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2 OCT **           IRV4825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590.00                     17,41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14/34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59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10-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3680" y="3041640"/>
            <a:ext cx="84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4 OCT **           BEN1927TT                                      710.00                    16,700.00                14/347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71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10-00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7720" y="3498840"/>
            <a:ext cx="84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6 OCT **           CAS4176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1,105.00                   15,595.00                 11/212                  1,105.0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10-00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7720" y="4032360"/>
            <a:ext cx="84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             8 OCT **           JON1927TT                                        325.00                 15,270.00                  11/212                   32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10-00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7720" y="4489560"/>
            <a:ext cx="84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              8 OCT **          SMI7459TT                                        285.00                 14,985.00                   20/506                   28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10-00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280" y="4946760"/>
            <a:ext cx="827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               9 OCT **          BAR7732TT                                       750.00                 14,235.00                   11/212                   75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10-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5479920"/>
            <a:ext cx="8345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              14 OCT **         WIL9701TT                                    1,560.00                   12,675.00                  20/506                 1,56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10-006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943600"/>
            <a:ext cx="8411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               20 OCT **         JOH4093TT                                       3,290.00                 9,385.0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20/5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3,29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10-00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720" y="6997680"/>
            <a:ext cx="88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1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03440" y="62895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Nathan A. Cl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48720" y="6975360"/>
            <a:ext cx="88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T.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64771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92040" y="4191120"/>
            <a:ext cx="128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30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10059840" cy="77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984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139920" y="6195960"/>
            <a:ext cx="1403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illiam J. Par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52880" y="6805440"/>
            <a:ext cx="10328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 R. C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96720" y="4168800"/>
            <a:ext cx="12416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23640" y="6477120"/>
            <a:ext cx="1262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ichael H. A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31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142440" y="6289560"/>
            <a:ext cx="148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S. Crand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63760" y="69753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P. Mo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02320" y="662940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32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259440" y="628956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Fred 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60160" y="6975360"/>
            <a:ext cx="101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 R. C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8840" y="6553080"/>
            <a:ext cx="1235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Frank R. M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80160" y="426708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33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2920" y="35244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84560" y="35244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3600" y="35244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920" y="73332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7800" y="73332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560" y="127152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2720" y="127152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27240" y="127152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9440" y="127152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6400" y="127152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5640" y="127152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76320" y="127152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9200" y="127152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360" y="21272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2127240"/>
            <a:ext cx="72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96280" y="212724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9640" y="212724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56960" y="212724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99320" y="127152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3280" y="212724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7360" y="2508120"/>
            <a:ext cx="843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6 OCT **            PRC1002                                    70,000.00                  430,000.00               12/230                   70,000.0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**-C-17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7000" y="2965320"/>
            <a:ext cx="850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23 OCT **         PRC1005                                    240,000.00                190,000.00               22/524                 240,0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**-C-210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7360" y="3422520"/>
            <a:ext cx="847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24 OCT **        PRC1009                                       13,200.00               176,800.00               22/524                   13,2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**-C-17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720" y="6997680"/>
            <a:ext cx="88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2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2920" y="35244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84560" y="35244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33600" y="35244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2920" y="73332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7800" y="73332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0560" y="127152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2720" y="127152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7240" y="127152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69440" y="127152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6400" y="127152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5640" y="127152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6320" y="127152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539200" y="127152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360" y="21272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05000" y="212724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6280" y="212724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7640" y="212724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56960" y="212724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99320" y="127152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18560" y="212724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360" y="2584440"/>
            <a:ext cx="8402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4 OCT **          PRC1003                                          5,490.00                59,510.00               22/524                    5,49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**-C-15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0160" y="3041640"/>
            <a:ext cx="55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4 OCT **         PRC1004                                             182.00                 59,328.00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360" y="3498840"/>
            <a:ext cx="8394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 6 OCT **         PRC1125                                             575.00                 58,753.00              15/386                       57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**-P-2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720" y="4032360"/>
            <a:ext cx="7531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             15 OCT **     W54FTATT4004                                  1,500.00               57,253.00                24/53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1,5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0880" y="4489560"/>
            <a:ext cx="5195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             21 OCT **       PRC3588                                               650.00              56,603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7000" y="4946760"/>
            <a:ext cx="8429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             21 OCT **       PRC1205                                            1,035.00              55,568.00                 22/5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1,035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**-P-2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720" y="6997680"/>
            <a:ext cx="88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3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6728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1856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4720" y="6997680"/>
            <a:ext cx="88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4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5920" y="2514600"/>
            <a:ext cx="742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5 OCT **     W54FTATT4002                                  6,600.00               13,400.00                15/38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6,6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6560" y="2959200"/>
            <a:ext cx="8484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7 OCT **         PRC1007                                          1,150.00               12,250.00                16/401                       1,150.00              **-C-17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5920" y="4032360"/>
            <a:ext cx="742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             20 OCT **     W54FTATT4001                                 10,000.00                 1,250.00                24/53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0680" y="3429000"/>
            <a:ext cx="7388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18 OCT **     W54FTATT4003                                  1,000.00               11,25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2/52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02320" y="647712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98680" y="6248520"/>
            <a:ext cx="95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R. H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3760" y="685800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P. Mo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11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64680" y="662940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82680" y="6289560"/>
            <a:ext cx="12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ichael H. A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16960" y="6858000"/>
            <a:ext cx="88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T.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12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66120" y="6365880"/>
            <a:ext cx="148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S. Crand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87440" y="69753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P. Mo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160" y="647712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13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34960" y="6289560"/>
            <a:ext cx="12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ichael H. A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2560" y="6899400"/>
            <a:ext cx="118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S. Sl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79080" y="655308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14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24960" y="6289560"/>
            <a:ext cx="122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eorg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2800" y="6975360"/>
            <a:ext cx="101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 R. C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47320" y="6553080"/>
            <a:ext cx="140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sley C. Br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3200" y="7378560"/>
            <a:ext cx="892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                         15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0T09:17:24Z</dcterms:created>
  <dc:creator>Soldier Support Institute</dc:creator>
  <dc:description/>
  <dc:language>en-US</dc:language>
  <cp:lastModifiedBy>Administrator</cp:lastModifiedBy>
  <cp:lastPrinted>2000-12-19T15:20:52Z</cp:lastPrinted>
  <dcterms:modified xsi:type="dcterms:W3CDTF">2004-12-06T16:19:12Z</dcterms:modified>
  <cp:revision>12</cp:revision>
  <dc:subject/>
  <dc:title>FUND CONTROL RECORD</dc:title>
</cp:coreProperties>
</file>